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7D8E8-18E5-4BF4-84D7-4A72FDD57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DE4C1-B7EB-4E90-9982-687EF9F0F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83B8B-041A-401F-A65C-CEA4F180E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1BBF8-7016-408F-8E47-7DCB50878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42B7E-1691-4C40-B076-F931C84F5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3798B-6E74-4525-AC88-648C33156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150E6-7A84-4175-A8B4-993B764BF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C947B-7179-4A1A-A63C-CE25FBEE4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64D7A-C7FF-4010-BCB8-015C0AC5A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9015C-19B2-4BB2-9FD7-03C9EA149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4A3E4-66F0-4EF7-A471-0413EF6AB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34B3D-5969-44AF-B380-B2C85358B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7019C-085D-4CBB-BE37-084F058D49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60948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22280" y="1143000"/>
            <a:ext cx="822960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Define subclasses derived from parent classes: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- Powerful form of re-use: new classes are variation of existing classes.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- Derived class inherits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public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GB" sz="2000" spc="-1" strike="noStrike" u="sng">
                <a:solidFill>
                  <a:srgbClr val="000000"/>
                </a:solidFill>
                <a:uFillTx/>
                <a:latin typeface="Times New Roman"/>
              </a:rPr>
              <a:t>protected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members as if they were its own.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Private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members are not directly accessible by derived class (access functions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 must be used)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Terminolog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Derived class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inherits from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base class.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- Parent class is superclass of subclass.</a:t>
            </a:r>
            <a:br>
              <a:rPr sz="2000"/>
            </a:b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ee example</a:t>
            </a:r>
            <a:br>
              <a:rPr sz="2000"/>
            </a:b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Visibility of class members: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private: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cope of member is limited to own class or friend functions.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public: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Member has global scope.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protected: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Member can be accessed by own class + maybe by derived classes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685800" y="60948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Virtual Fun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22280" y="1143000"/>
            <a:ext cx="822960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Virtual functi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declared with the keyword virtual in base clas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Overridden in one or more derived class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Once virtual, always virtual: even if the derived class does not also the overridden 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 function virtual, it still i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lass with virtual function(s) is polymorphic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When virtual function is called via base class point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++ determines the type of object pointed to by the pointer, and uses this to select,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 which function to cal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is is done at runtim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When different objects are pointed to, different versions of virtual functions are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  invoked: Polymorphic behaviou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The type of the object being pointed to, not the type of the pointer, determines which version is invok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685800" y="60948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Virtual Functions and Abstract Cla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22280" y="1143000"/>
            <a:ext cx="822960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Sometimes, virtual functions in base class has no meaningful defin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ll animals have different favourite food, so virtual favoriteFood() will do noth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unction wants to be overridden in all derived class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To enforce this, use pure virtual function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Declare, but do not define virtual function in base clas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nstead, write virtual void favoriteFood(void)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Times New Roman"/>
              </a:rPr>
              <a:t>= 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is means, every derived class must supply their own definition of favoriteFood(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f a class fails to do so, a compiler error is crea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f a class contains only one pure virtual function, it is virtual as well. No instances of this class can be created. The class becomes an </a:t>
            </a:r>
            <a:r>
              <a:rPr b="1" i="1" lang="en-GB" sz="2000" spc="-1" strike="noStrike">
                <a:solidFill>
                  <a:srgbClr val="000000"/>
                </a:solidFill>
                <a:latin typeface="Times New Roman"/>
              </a:rPr>
              <a:t>abstract class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But … abstract class can be still used to create pointers (see animal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bstract classes are sometimes desired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85800" y="60948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Cas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22280" y="1143000"/>
            <a:ext cx="822960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orced type conversion can be achieved by means of a special operator.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Example in C: 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Example in C++: 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int x;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 int x; </a:t>
            </a:r>
            <a:br>
              <a:rPr sz="2000"/>
            </a:b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  float n;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 float n; </a:t>
            </a:r>
            <a:br>
              <a:rPr sz="2000"/>
            </a:b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  n = </a:t>
            </a:r>
            <a:r>
              <a:rPr b="0" i="1" lang="en-GB" sz="2000" spc="-1" strike="noStrike" u="sng">
                <a:solidFill>
                  <a:srgbClr val="000000"/>
                </a:solidFill>
                <a:uFillTx/>
                <a:latin typeface="Times New Roman"/>
              </a:rPr>
              <a:t>(float)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 x / 3;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 n = </a:t>
            </a:r>
            <a:r>
              <a:rPr b="0" i="1" lang="en-GB" sz="2000" spc="-1" strike="noStrike" u="sng">
                <a:solidFill>
                  <a:srgbClr val="000000"/>
                </a:solidFill>
                <a:uFillTx/>
                <a:latin typeface="Times New Roman"/>
              </a:rPr>
              <a:t>static_cast&lt;float&gt;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 (x) / 3;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tatic casts are used for many purposes: </a:t>
            </a:r>
            <a:br>
              <a:rPr sz="2000"/>
            </a:b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Example 1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: convert a signed type into the correct unsigned type or vice versa. </a:t>
            </a:r>
            <a:br>
              <a:rPr sz="2000"/>
            </a:b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signed char x = 0xFF;</a:t>
            </a:r>
            <a:br>
              <a:rPr sz="2000"/>
            </a:b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 int i;</a:t>
            </a:r>
            <a:br>
              <a:rPr sz="2000"/>
            </a:b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 i = static_cast&lt;unsigned char&gt; (x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e value of I will be 255, while it would be –1 if we had omitted the cas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422280" y="685800"/>
            <a:ext cx="822960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Example 2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: division operation that, although applied to integers, is to yield a real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                      quotient.</a:t>
            </a:r>
            <a:br>
              <a:rPr sz="2000"/>
            </a:b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 int i = 14, j = 3;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 float x, y;</a:t>
            </a:r>
            <a:br>
              <a:rPr sz="2000"/>
            </a:b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 x = i / j;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 y = static_cast&lt;float&gt;(i) / static_cast&lt;float&gt;(j);</a:t>
            </a:r>
            <a:br>
              <a:rPr sz="2000"/>
            </a:b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 The result will be x = 4.0 and y = 4.666;  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Limitation of static_cast: Const pointers cannot be assigned to non-const pointers.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 Use </a:t>
            </a:r>
            <a:r>
              <a:rPr b="1" i="1" lang="en-GB" sz="2000" spc="-1" strike="noStrike">
                <a:solidFill>
                  <a:srgbClr val="000000"/>
                </a:solidFill>
                <a:latin typeface="Times New Roman"/>
              </a:rPr>
              <a:t>const_cast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for this purpose; see example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constcast1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br>
              <a:rPr sz="2000"/>
            </a:b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 Remark: constcast1 gives details about one of the few situations, where const_cast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                is useful. It is not recommended to use it otherwise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422280" y="914400"/>
            <a:ext cx="822960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ere are also situations, where a bit pattern in memory must be interpreted as a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 value of a data type. 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 Example:</a:t>
            </a:r>
            <a:br>
              <a:rPr sz="2000"/>
            </a:b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char ch[] = {‘a’, ‘b’, ‘c’, ‘d’};</a:t>
            </a:r>
            <a:br>
              <a:rPr sz="2000"/>
            </a:b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  float *zf = reinterpreter_cast&lt;float *&gt;(ch);</a:t>
            </a:r>
            <a:br>
              <a:rPr sz="2000"/>
            </a:b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  cout &lt;&lt; *zf &lt;&lt; endl;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Example: Protocol analyser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492120" y="609480"/>
            <a:ext cx="808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Finally … Some Useful Guidelines for Good Class Design and Implem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22280" y="1143000"/>
            <a:ext cx="822960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omplete file head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Protection against multiple includ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tandard operations for all class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No public attribut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onst methods if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onst arguments if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mallest possible scope of variab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nitialise variables when defin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Good names for variables and method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Homogeneous sty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Use style guidelin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Use multiple source- and header files if requir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Use STL rather than reinventing the whee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22280" y="1143000"/>
            <a:ext cx="822960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Visibility of member of…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Visibility modifier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parent class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derived class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public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public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publ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protected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protec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private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priv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protected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public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protected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protected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protected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private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private</a:t>
            </a:r>
            <a:br>
              <a:rPr sz="2000"/>
            </a:b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private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public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priv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protected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priv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private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priv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Remark: Public visibility modifier is the most common on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60948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Private, Protected and Public Inheri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5800" y="60948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Inheritance Types I/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2280" y="1143000"/>
            <a:ext cx="822960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Inheritance for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- … specialisation: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hild class is special case or sub-type of parent (most common form if inheritance)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 (see project “inheritance1”)</a:t>
            </a:r>
            <a:br>
              <a:rPr sz="2000"/>
            </a:b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- … specification: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hild class has implementation of behaviour that is defined but not implemented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 in parent (this is the basis of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abstract classes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, see later) </a:t>
            </a:r>
            <a:br>
              <a:rPr sz="2000"/>
            </a:b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- … extension: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hild class adds new behaviour only; does not overwrite existing methods/variables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 (see project “inheritance2”)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- … combination: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hild class combines features of more than one parent (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multiple inheritance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85800" y="60948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Inheritance Types II / 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22280" y="1143000"/>
            <a:ext cx="822960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DON’T use Inheritance for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- … construction: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hild inherits much of functionality from parent, but there is no logical relationship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 between them; example: Pinball game – ball &amp; whole</a:t>
            </a:r>
            <a:br>
              <a:rPr sz="2000"/>
            </a:b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- … limitation: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Behaviour of child class  is smaller or more restrictive than that of parent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60948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Inheritance and Overriding Fun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22280" y="1143000"/>
            <a:ext cx="822960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 derived class inherits all member functions from superclass.</a:t>
            </a:r>
            <a:br>
              <a:rPr sz="2000"/>
            </a:b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However, a derived class can redefine functions that were already defined in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uperclas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or objects of the derived class, these override the original defini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 derived class can access the overridden function of the superclass by using the scope resolution operator ::, e.g. &lt;VarName&gt;.&lt;SuperclassName&gt;::&lt;function&gt;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(See project “inheritance3”);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685800" y="60948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Inheritance and Constru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22280" y="1143000"/>
            <a:ext cx="822960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f an instance of a subclass is created, a constructor of the base class is called before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  the constructor of the derived class.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- This is done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explicitly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implicitly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br>
              <a:rPr sz="2000"/>
            </a:b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lass car : public vehicle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public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ar(void) : vehicle() {…}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// explicit call, optional arguments can be pass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ar(void) {…}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// implicit call of default constructor of vehic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etc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85800" y="60948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Inheritance and Destru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22280" y="1143000"/>
            <a:ext cx="815976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f an instance of a subclass is created, the attributes of the base class are created and initialised first.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is means that destructors are called in the reverse order to constructors.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But: There is no need to call a destructor explicitly.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03440" y="335268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Multiple Inheri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92120" y="3809880"/>
            <a:ext cx="815976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 class can be derived directly by two or more others.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ame syntax as for single inheritance e.g.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 class MobilePhone : public Telephone, public Wireless …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Useful in some circumstances, but increases complexity of design.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685800" y="60948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Inheritance and Polymorph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22280" y="1143000"/>
            <a:ext cx="822960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Polymorphism: one interface, multiple implementations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- Process whereby different implementations of a function can be accessed using the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 same name.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- Different classes may respond to the same operation request in different ways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 unique to their respective behaviour.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- Since the same interface may be used irrespective of the actual class, the program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 complexity is kept dow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Two main types: compile-time and run-time polymorphis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Compile-Time Polymorphism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chieved with overloading operators and functions, overriding functions in derived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  classes.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- Compiler ascertains during compile time, which member function needs to be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 executed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422280" y="1143000"/>
            <a:ext cx="822960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ypically used with inheritanc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bility to call functions of an object without specifying the object’s exact clas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Uses dynamic binding of function invocations to specific class methods at run-tim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chieved with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virtual functions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ee example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animal1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- This example shows, how a set of different objects with the same superclass can be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   manag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60948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Run-Time or “Pure” Polymorphis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2T00:39:33Z</dcterms:created>
  <dc:creator>Paul Boyle</dc:creator>
  <dc:description/>
  <dc:language>en-US</dc:language>
  <cp:lastModifiedBy>Paul Boyle</cp:lastModifiedBy>
  <dcterms:modified xsi:type="dcterms:W3CDTF">2004-01-22T01:20:47Z</dcterms:modified>
  <cp:revision>1</cp:revision>
  <dc:subject/>
  <dc:title>PowerPoint Presentation</dc:title>
</cp:coreProperties>
</file>